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29C-9E78-42B9-B7F5-DF353AF1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F79-3F74-4AC6-8089-0D93F87A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F79-099E-4940-9C0E-61195F4C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E9A-EA33-4FDE-BDC1-3D7C7131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CC442-2765-4A55-8C86-71093608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EB05E-DB36-4023-9F90-AACDEEEE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F0D73-1139-4693-8981-0C1FA637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4ED7D-66A4-4603-8587-2B4307E0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ECB30-692C-4C0A-9053-CC82C5FF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3E6F0-C793-41EA-9DC3-3699941C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0B625-13E6-4E30-A3BC-F87A82AB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24A2-0FDA-4600-9EBE-99AEE6F7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2DEA2-422E-48D7-9282-823D1904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D6CD8-C331-4AA1-AF15-9BAFF360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8281E-D739-4015-871D-01D5D7E7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0501D-740F-473F-95D3-33820263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02A81-ED54-4F8D-A055-39B661A2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D16-9712-4F77-B4AC-3C01D4DF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AE7-A48E-42EB-A0EB-6C63EFF3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B2C7-1AD1-4A1C-8E71-881B24BB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F39-90CD-46D3-9838-953C86B3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3286-46F4-4969-AB79-38E611FB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3FA-8ABF-4C27-8B88-63CC33E6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A930-412F-45B3-944B-EF345A6A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AA4F-2564-4E92-970E-050F30B4E0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E199-A819-4096-9987-5E9A5FC9F6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un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827000"/>
            <a:ext cx="4033800" cy="40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meet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ect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word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ection: 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onym: Never s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onym: recogn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llable: re/u/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59320" y="1600200"/>
            <a:ext cx="2621160" cy="216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nounce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a spe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 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announ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: spe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ynoym: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A/nnounce/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</cp:lastModifiedBy>
  <dcterms:modified xsi:type="dcterms:W3CDTF">2008-12-16T21:56:40Z</dcterms:modified>
  <cp:revision>7</cp:revision>
  <dc:subject/>
  <dc:title>PowerPoint Presentation</dc:title>
</cp:coreProperties>
</file>